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52000" y="0"/>
            <a:ext cx="842760" cy="1041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320" y="130320"/>
            <a:ext cx="0" cy="6600600"/>
          </a:xfrm>
          <a:prstGeom prst="line">
            <a:avLst/>
          </a:prstGeom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0320" y="76320"/>
            <a:ext cx="8048520" cy="0"/>
          </a:xfrm>
          <a:prstGeom prst="line">
            <a:avLst/>
          </a:prstGeom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eaec5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eaec5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651440" y="6188040"/>
            <a:ext cx="199800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4247-3565-4D1C-AB31-26512F2D48A9}" type="slidenum"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0720" y="6491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CCD2A103</a:t>
            </a:r>
            <a:endParaRPr b="0" lang="en-US" sz="1800" spc="-1" strike="noStrike">
              <a:solidFill>
                <a:srgbClr val="eaec5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onduct Replacement Operations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6240" y="2057400"/>
            <a:ext cx="6845400" cy="456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cfeb9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ction: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duct Replacement Operation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ditions: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requirement to conduct replacement operations and access to AR 600-8-111 (Wartime Replacement Operations), FM 12-6 (Personnel Doctrine)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  Defined the wartime replacement system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 Identified replacement at the individual, CRC and theater level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 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.  Conducted replacement operations at the battalion S1, brigade S1, division G1 and the corps AG/PG commander level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Replacement Flow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95480" y="1619280"/>
            <a:ext cx="6953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18:00:18Z</dcterms:created>
  <dc:creator>ADG</dc:creator>
  <dc:description/>
  <dc:language>en-US</dc:language>
  <cp:lastModifiedBy>Administrator</cp:lastModifiedBy>
  <dcterms:modified xsi:type="dcterms:W3CDTF">2005-07-08T14:45:34Z</dcterms:modified>
  <cp:revision>13</cp:revision>
  <dc:subject/>
  <dc:title>Process MOS Medical Retention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D\CCD5H1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